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2A9-DCAE-4888-BA44-23A79FED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8E3D-4C26-495B-B14B-0B2669D4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148A-5DDC-4AEA-9B06-E994CCEF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0A3-7172-41B7-BD19-ED7BDF9E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D6A-4106-459C-8390-FA5DE87C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68E-69E8-40EF-8888-645B15D9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9444-2815-4412-8FA1-2AA709A3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EEE-8FB5-4173-90C8-53D394E0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3D9-8953-47A9-8B1E-A61E8AA4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04A-B685-4BCB-9584-48E2E047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402-4890-42E7-8A2F-53B14412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124-9407-4BAD-9431-313DD5B0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DE86-4046-498F-9306-D2D0CBCFA4BD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realza.co.za/dacemap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6095880"/>
            <a:ext cx="4762440" cy="76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1557360"/>
            <a:ext cx="835344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>
                    <a:alpha val="35000"/>
                  </a:srgbClr>
                </a:solidFill>
                <a:latin typeface="Microstyle Bold Extended ATT"/>
              </a:rPr>
              <a:t>DM-ASHLAND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>
                  <a:alpha val="35000"/>
                </a:srgbClr>
              </a:solidFill>
              <a:latin typeface="Microstyle Bold Extended ATT"/>
              <a:ea typeface="Microstyle Bold Extended AT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190600" y="6095880"/>
            <a:ext cx="476280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190600" y="6095880"/>
            <a:ext cx="476280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190600" y="6095880"/>
            <a:ext cx="476280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195640" y="6095880"/>
            <a:ext cx="476244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95280" y="1557360"/>
            <a:ext cx="8353440" cy="5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>
                    <a:alpha val="35000"/>
                  </a:srgbClr>
                </a:solidFill>
                <a:latin typeface="Microstyle Bold Extended ATT"/>
              </a:rPr>
              <a:t>DM-ASHLAND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>
                  <a:alpha val="35000"/>
                </a:srgbClr>
              </a:solidFill>
              <a:latin typeface="Microstyle Bold Extended ATT"/>
              <a:ea typeface="Microstyle Bold Extended AT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987640" y="4941720"/>
            <a:ext cx="28796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>
                    <a:alpha val="50000"/>
                  </a:srgbClr>
                </a:solidFill>
                <a:latin typeface="Arial Black"/>
              </a:rPr>
              <a:t>PLAY AGAI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01:37:12Z</dcterms:created>
  <dc:creator>Kyle</dc:creator>
  <dc:description/>
  <dc:language>en-US</dc:language>
  <cp:lastModifiedBy>Kyle</cp:lastModifiedBy>
  <dcterms:modified xsi:type="dcterms:W3CDTF">2003-10-18T01:56:07Z</dcterms:modified>
  <cp:revision>18</cp:revision>
  <dc:subject/>
  <dc:title>Slide 1</dc:title>
</cp:coreProperties>
</file>